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6B8B-E60C-478D-AB2F-42308E13A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48F7-1D35-4600-B41C-C76F44F7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1F76-F785-4183-9A56-C0B982D48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8B0B-300A-44AD-8361-F74F042B2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B8EF-D1D6-43BA-A5D4-5902FF20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9775-B379-4CC2-B415-5B3A4198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07A3-A08E-41F3-9B56-8FC7E973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7C2B-605D-4CE8-B7E1-2AF2FB05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80AE-CA6F-46EB-91B2-614DDC43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2893-29F6-4664-9ADA-09418975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685B-0410-48F8-902B-1EDFF8A0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E486-1785-48BE-8E81-879EECB5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A1A8-31D8-4402-94A1-B8F2D0258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in Numbers Small in S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Ampersand, Meriba Asencio, Tina Dang, Yolanda Flores, Mario Inter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ject and Grad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th 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iculum Framing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ential: How do we work toge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: How do we affect bugs and how do they affect 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: If a bug could talk what would it say? How do we affect inse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egon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TE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.04.WR.04 Choose the form of writing that best suits the intended purpose--personal lett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ter to the editor, review, poem, report, or narrativ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L.04.LI.04 Identify the main problem or conflict of the plot, and explain how it is resol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L.04.RE.11 Determine meanings of words using contextual and structural clu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L.04.WR.12 Use words that describe, explain, or provide additional details and connec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CIAL SC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.05.EC.01 Understand that all economic choices have costs and benefits, and compare options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s of costs and benefi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S.05.EC.01.01 Know that whenever a choice is made, there is a co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.05.GE.01 Define basic geography vocabulary such as concepts of location, direction, distanc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le, movement, and region using appropriate words and diagram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S.05.GE.01.01 Know and use basic map elements to answer geographic questions or displ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geographic inform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S.05.GE.02.02 Use other visual representations to locate, identify, and distinguish physical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human features of places and reg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.05.GE.07 Understand how physical environments are affected by human activiti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S.05.GE.07.01 Understand how and why people alter the physical environ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S.05.GE.07.02 Describe how human activity can impact the environ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A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.05.CP.01 Use experiences, imagination, observations, essential elements and organizati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ciples to achieve a desired effect when creating, presenting and/or performing works of ar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.05.CP.02 Identify the creative process used, and the choices made, when combining idea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chniques and problem solving to produce one's work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.05.CP.04 Critique one's own work using self-selected criteria that reveal knowledge of the art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ally and in writ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.05.AC.01 Identify essential elements, organizational principles and aesthetic criteria that can 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d to analyze works of ar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ill lea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identify bug’s and body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ug’s life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mpare and contrast bugs and hu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g movements through pretend pl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humans affect the bugs environment and visa ve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re a bugs habitat and predator prey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observe and increase their attention s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utilize investigation materials to explore and record their findings on b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nipulate clay to build bug models with knowledge gain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4T21:38:31Z</dcterms:created>
  <dc:creator>LCT-Generic</dc:creator>
  <dc:description/>
  <dc:language>en-US</dc:language>
  <cp:lastModifiedBy>LCT-Generic</cp:lastModifiedBy>
  <dcterms:modified xsi:type="dcterms:W3CDTF">2009-08-04T21:58:46Z</dcterms:modified>
  <cp:revision>2</cp:revision>
  <dc:subject/>
  <dc:title>Big in Numbers Small in Size</dc:title>
</cp:coreProperties>
</file>