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B0F0-E870-4E18-844F-91F14A6AC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A317-EB52-405F-8D38-F400E883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9A20-D516-448C-84AE-6B46BA468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D088-4194-4F0D-9DDF-0F404216A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0900-B985-4C8C-839E-4C6671C2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FA49-3F11-429B-9FF4-A6C4B635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6D89-12F5-4DFB-9A3B-3FC5F61A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19C1-77F5-404B-85B3-3BF334AB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C1CE-CF86-428B-B5AA-B2B18B9F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D9BE-EA9E-4F7E-B383-A1AD3645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1537-1FA8-4939-B8D3-7DE680C2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D8DA-F79B-4951-8364-029EDAF0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93D5-6538-40A4-9252-02FE4FD19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in Numbers Small in S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Ampersand, Meriba Asencio, Tina Dang, Yolanda Flores, Mario Inter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ject and Grad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th 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iculum Framing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: How do we work toge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: How do we affect bugs and how do they affect 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: If a bug could talk what would it say? How do we affect inse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egon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TE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.04.WR.04 Choose the form of writing that best suits the intended purpose--personal lett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ter to the editor, review, poem, report, or narrativ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L.04.LI.04 Identify the main problem or conflict of the plot, and explain how it is resol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L.04.RE.11 Determine meanings of words using contextual and structural clu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L.04.WR.12 Use words that describe, explain, or provide additional details and connec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CIAL SC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.05.EC.01 Understand that all economic choices have costs and benefits, and compare options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s of costs and benefi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S.05.EC.01.01 Know that whenever a choice is made, there is a co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.05.GE.01 Define basic geography vocabulary such as concepts of location, direction, distanc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le, movement, and region using appropriate words and diagram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S.05.GE.01.01 Know and use basic map elements to answer geographic questions or displ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geographic inform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S.05.GE.02.02 Use other visual representations to locate, identify, and distinguish physical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human features of places and reg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.05.GE.07 Understand how physical environments are affected by human activiti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S.05.GE.07.01 Understand how and why people alter the physical environ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S.05.GE.07.02 Describe how human activity can impact the environ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A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.05.CP.01 Use experiences, imagination, observations, essential elements and organizat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ciples to achieve a desired effect when creating, presenting and/or performing works of ar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.05.CP.02 Identify the creative process used, and the choices made, when combining idea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chniques and problem solving to produce one's work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.05.CP.04 Critique one's own work using self-selected criteria that reveal knowledge of the art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ally and in writ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.05.AC.01 Identify essential elements, organizational principles and aesthetic criteria that can 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d to analyze works of ar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lea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identify bug’s and body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ug’s life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mpare and contrast bugs and hu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g movements through pretend pl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humans affect the bugs environment and visa ve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re a bugs habitat and predator prey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observe and increase their attention s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utilize investigation materials to explore and record their findings on b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nipulate clay to build bug models with knowledge gain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4T21:38:31Z</dcterms:created>
  <dc:creator>LCT-Generic</dc:creator>
  <dc:description/>
  <dc:language>en-US</dc:language>
  <cp:lastModifiedBy>LCT-Generic</cp:lastModifiedBy>
  <dcterms:modified xsi:type="dcterms:W3CDTF">2009-08-04T21:58:46Z</dcterms:modified>
  <cp:revision>2</cp:revision>
  <dc:subject/>
  <dc:title>Big in Numbers Small in Size</dc:title>
</cp:coreProperties>
</file>