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127B-996F-4FBC-A370-430222B0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C62-4C53-45D2-8660-AFE262C5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E78-8B92-48C4-8F01-FFE80398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8C2-D209-497F-B71A-C8DDBA1D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CD6F-F8A2-407A-B332-F9689CBA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CEE-9731-4CFD-A15F-51E12145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A9A-21C5-41B2-BF4A-83B7D580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228-FF5F-446C-9195-5EE7440E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4DB-A21D-4CBF-A160-7A25C22B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9113-9969-4CF7-99DF-6369893E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017-78DA-4F14-A2A0-45495610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1D2-D852-4AF0-97B2-B9AE9974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6891-DE37-4A30-AFF6-108205FC6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in Numbers Small in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mpersand, Meriba Asencio, Tina Dang, Yolanda Flores, Mario Inte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 and Grad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Framing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: How do we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: How do we affect bugs and how do they affect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: If a bug could talk what would it say? How do we affect ins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egon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.04.WR.04 Choose the form of writing that best suits the intended purpose--personal lett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 to the editor, review, poem, report, or narr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LI.04 Identify the main problem or conflict of the plot, and explain how it is resol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RE.11 Determine meanings of words using contextual and structural c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WR.12 Use words that describe, explain, or provide additional details and conn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EC.01 Understand that all economic choices have costs and benefits, and compare options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s of costs and benefi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EC.01.01 Know that whenever a choice is made, there is a c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1 Define basic geography vocabulary such as concepts of location, direction, dista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, movement, and region using appropriate words and diagra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1.01 Know and use basic map elements to answer geographic questions or disp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eographic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2.02 Use other visual representations to locate, identify, and distinguish physical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uman features of places and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7 Understand how physical environments are affected by human activ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1 Understand how and why people alter the physical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2 Describe how human activity can impact the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1 Use experiences, imagination, observations, essential elements and organiz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les to achieve a desired effect when creating, presenting and/or performing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2 Identify the creative process used, and the choices made, when combining idea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ques and problem solving to produce one's w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4 Critique one's own work using self-selected criteria that reveal knowledge of the ar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ally and in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AC.01 Identify essential elements, organizational principles and aesthetic criteria that can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d to analyze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identify bug’s and body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g’s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are and contrast bugs and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movements through pretend 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umans affect the bugs environment and visa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a bugs habitat and predator prey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bserve and increase their attention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tilize investigation materials to explore and record their findings on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nipulate clay to build bug models with knowledge ga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21:38:31Z</dcterms:created>
  <dc:creator>LCT-Generic</dc:creator>
  <dc:description/>
  <dc:language>en-US</dc:language>
  <cp:lastModifiedBy>LCT-Generic</cp:lastModifiedBy>
  <dcterms:modified xsi:type="dcterms:W3CDTF">2009-08-04T21:58:46Z</dcterms:modified>
  <cp:revision>2</cp:revision>
  <dc:subject/>
  <dc:title>Big in Numbers Small in Size</dc:title>
</cp:coreProperties>
</file>