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691-6CDD-41BD-9073-14E896B4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46F-5AB6-453A-9EBF-A34322D2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ECA-634C-4AB3-A52F-E3F9C926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627-D2AD-4F16-9951-74BAFA98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B28-1A0F-4BEC-85D8-69B0231F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112-11F2-4337-9AB5-9F21C063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9D2-2D55-41B4-87A7-6EF51A48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255-1BF3-4985-A385-8D787501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692-9F9F-43C3-A0E9-D0B21A4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F3D-C8CE-4D2D-A0BA-AE943BCC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889-84A0-4E31-B378-61B52A3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1B4-7575-4AA4-9AAF-C9D52C1F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F4E9-80A6-4FD7-B0DA-F4986328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in Numbers Small in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Ampersand, Meriba Asencio, Tina Dang, Yolanda Flores, Mario Inter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 and Grad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 Framing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: How do we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: How do we affect bugs and how do they affect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: If a bug could talk what would it say? How do we affect ins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egon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E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.04.WR.04 Choose the form of writing that best suits the intended purpose--personal lett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ter to the editor, review, poem, report, or narrati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LI.04 Identify the main problem or conflict of the plot, and explain how it is resol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RE.11 Determine meanings of words using contextual and structural c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L.04.WR.12 Use words that describe, explain, or provide additional details and conn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CIAL SC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EC.01 Understand that all economic choices have costs and benefits, and compare options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s of costs and benef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EC.01.01 Know that whenever a choice is made, there is a c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1 Define basic geography vocabulary such as concepts of location, direction, distan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le, movement, and region using appropriate words and diagra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1.01 Know and use basic map elements to answer geographic questions or displ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geographic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2.02 Use other visual representations to locate, identify, and distinguish physical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uman features of places and reg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.05.GE.07 Understand how physical environments are affected by human activit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1 Understand how and why people alter the physical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S.05.GE.07.02 Describe how human activity can impact the environ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1 Use experiences, imagination, observations, essential elements and organiza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s to achieve a desired effect when creating, presenting and/or performing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2 Identify the creative process used, and the choices made, when combining idea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ques and problem solving to produce one's wor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CP.04 Critique one's own work using self-selected criteria that reveal knowledge of the ar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ally and in wri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.05.AC.01 Identify essential elements, organizational principles and aesthetic criteria that can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d to analyze works of a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identify bug’s and body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g’s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and contrast bugs and hu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movements through pretend 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umans affect the bugs environment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a bugs habitat and predator prey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observe and increase their attention 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tilize investigation materials to explore and record their findings on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nipulate clay to build bug models with knowledge ga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21:38:31Z</dcterms:created>
  <dc:creator>LCT-Generic</dc:creator>
  <dc:description/>
  <dc:language>en-US</dc:language>
  <cp:lastModifiedBy>LCT-Generic</cp:lastModifiedBy>
  <dcterms:modified xsi:type="dcterms:W3CDTF">2009-08-04T21:58:46Z</dcterms:modified>
  <cp:revision>2</cp:revision>
  <dc:subject/>
  <dc:title>Big in Numbers Small in Size</dc:title>
</cp:coreProperties>
</file>