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7A9F1-A21E-48C3-9F2C-41BBA110D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3BCC0-EC50-4265-8C4C-CA9EB77AE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8C2DE-0F0A-4C58-AA34-C167A4D7A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E2DFA-E9CD-4E57-8A0D-1C8722B00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17F8A-D929-49F8-ACE8-7EE4218F1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C6233-5A24-4028-8BB0-CF4737EA2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4E36B-8DC9-497C-ACA7-5152F9CAE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E72F0-6436-43AB-BBE1-44F9731A9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D3C90-AA34-4AB0-A93C-BF4BF01E4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C2F7C-59DD-4A55-864E-911C12A38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6D0AC-79F5-4382-9365-908FA6F73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1F3E3-80DC-4462-B37D-560C19B71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C1578-B986-4EAF-96C8-15CF76D44B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g in Numbers Small in Siz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Ampersand, Meriba Asencio, Tina Dang, Yolanda Flores, Mario Interi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bject and Grade Lev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cial Stud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tera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th Gr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urriculum Framing 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sential: How do we work togeth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t: How do we affect bugs and how do they affect u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ent: If a bug could talk what would it say? How do we affect insec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regon Standa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TERA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L.04.WR.04 Choose the form of writing that best suits the intended purpose--personal letter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tter to the editor, review, poem, report, or narrativ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EL.04.LI.04 Identify the main problem or conflict of the plot, and explain how it is resol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EL.04.RE.11 Determine meanings of words using contextual and structural clu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EL.04.WR.12 Use words that describe, explain, or provide additional details and connection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OCIAL SCIEN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.05.EC.01 Understand that all economic choices have costs and benefits, and compare options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s of costs and benefit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SS.05.EC.01.01 Know that whenever a choice is made, there is a cos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.05.GE.01 Define basic geography vocabulary such as concepts of location, direction, distance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cale, movement, and region using appropriate words and diagram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SS.05.GE.01.01 Know and use basic map elements to answer geographic questions or displ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geographic informatio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SS.05.GE.02.02 Use other visual representations to locate, identify, and distinguish physical 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human features of places and region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.05.GE.07 Understand how physical environments are affected by human activiti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SS.05.GE.07.01 Understand how and why people alter the physical environmen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SS.05.GE.07.02 Describe how human activity can impact the environmen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AR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.05.CP.01 Use experiences, imagination, observations, essential elements and organization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inciples to achieve a desired effect when creating, presenting and/or performing works of ar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.05.CP.02 Identify the creative process used, and the choices made, when combining ideas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chniques and problem solving to produce one's work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.05.CP.04 Critique one's own work using self-selected criteria that reveal knowledge of the arts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rally and in writing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.05.AC.01 Identify essential elements, organizational principles and aesthetic criteria that can b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d to analyze works of ar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arning 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s will lear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to identify bug’s and body par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bug’s life cyc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ompare and contrast bugs and hum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g movements through pretend pla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humans affect the bugs environment and visa ver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lore a bugs habitat and predator prey relationsh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observe and increase their attention sp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to utilize investigation materials to explore and record their findings on bu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manipulate clay to build bug models with knowledge gain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04T21:38:31Z</dcterms:created>
  <dc:creator>LCT-Generic</dc:creator>
  <dc:description/>
  <dc:language>en-US</dc:language>
  <cp:lastModifiedBy>LCT-Generic</cp:lastModifiedBy>
  <dcterms:modified xsi:type="dcterms:W3CDTF">2009-08-04T21:58:46Z</dcterms:modified>
  <cp:revision>2</cp:revision>
  <dc:subject/>
  <dc:title>Big in Numbers Small in Size</dc:title>
</cp:coreProperties>
</file>